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3C66-04C8-49BF-B4E9-251B4397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EF98-F262-4E1E-9C88-6CA81B4E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1684-2B41-4D9C-B28A-6A9DE909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24FE-2B43-4A6B-9596-75250792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A39B-6E60-4168-81FC-A73FDAC9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BAE5-C918-46B1-87A7-E0BCB98C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6D5D-BEAA-43EA-9B4D-8A111207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8563-3304-470E-B498-8FB3977C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BE31-B468-4E36-B94D-DB1E19BA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AC61-494C-445B-B188-4A72D2E2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3B18-6B4E-4DCB-A445-6D038642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BB3-9A76-4C6B-8450-18EF9F82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2023-2E3F-4DFD-A126-C9C55B9D683B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9680" y="2071800"/>
            <a:ext cx="79297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mbria"/>
              </a:rPr>
              <a:t>"Волшебные десятичные дроби" </a:t>
            </a:r>
            <a:r>
              <a:rPr b="1" lang="ru-RU" sz="6000" spc="-1" strike="noStrike">
                <a:solidFill>
                  <a:srgbClr val="000000"/>
                </a:solidFill>
                <a:latin typeface="Cambria"/>
              </a:rPr>
              <a:t>в 5-м классе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2" name="Рисунок 3" descr="888.jpg"/>
          <p:cNvPicPr/>
          <p:nvPr/>
        </p:nvPicPr>
        <p:blipFill>
          <a:blip r:embed="rId1"/>
          <a:stretch/>
        </p:blipFill>
        <p:spPr>
          <a:xfrm>
            <a:off x="285840" y="214200"/>
            <a:ext cx="2143080" cy="1571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785680" y="285480"/>
            <a:ext cx="607212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Учебный проект 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mbria"/>
              </a:rPr>
              <a:t>сказка про десятичные дроби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 городе, где жили дроби, такие, как (12/10), (289/100), (1872/10000), (5/100) и вообще со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знаменателями 10, 100, 1000 и т.д., все жили очень дружно. Никто никого не бил, не обижал и никто не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спорил. В этом городе были красивые дома, а на окошках стояли красивые цветочки. У каждой дроби был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свой дом и сад. В саду росли наливные яблочки, вишенки, груши, а ещё разные цветочк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Были там также и школы. Туда ходили маленькие дробики, со знаменателем 10. Были и взрослые дроби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со знаменателями от 100 до 100 000, и совсем старые, со знаменателем от 100 000 и до бесконечност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зрослые дроби бегали на работу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" name="Рисунок 3" descr="OKSVAdrobi2-1.jpg"/>
          <p:cNvPicPr/>
          <p:nvPr/>
        </p:nvPicPr>
        <p:blipFill>
          <a:blip r:embed="rId1"/>
          <a:stretch/>
        </p:blipFill>
        <p:spPr>
          <a:xfrm>
            <a:off x="6357960" y="5143680"/>
            <a:ext cx="24051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у, а старики и старушки весь день сидели в креслах-качалках и читали книги, а иногда шлепали по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опкам дробей-малышей за непослушание или шалости, или читали им сказк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о однажды на город напал Штрих со своей армией. Он беспощадно убивал всех, сжигал дома, грабил их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есять лет длилась война. Побеждали то одни, то другие, но выиграть войну никто не мог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о один добрый Волшебник помог беспомощным дробям. Он погасил горящие дома, вернул награбленное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и прогнал Штриха прочь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Лишь один вопрос волновал Волшебника: “Как же вылечить пораненные дроби?”. Он долго думал и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аконец, придумал. Вместо дробной черты он дал дробям запятые, убрал знаменатели, а таким дробям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ак 1/100, 32/1000 и т.д. добавил после целой части справа 1, 2, 3 и т.д. нулей, смотря сколько их было в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знаменателе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Обоснование значимости проек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mbria"/>
              </a:rPr>
              <a:t>С десятичными дробями учащиеся пятого класса встречаются впервые. Они должны научиться оперировать с дробями так же хорошо, как с натуральными числами, понять значимость этих чисел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mbria"/>
              </a:rPr>
              <a:t>Адресация: Данный проект целесообразно использовать при изучении темы “Десятичные дроби”, (математика 5 класс)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Образовательные: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Продолжение работы по формированию устойчивого интереса к математике и к внеклассным формам его углубленного изучения. Изучение десятичных дробей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Воспитательные: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Создание условий для отношений сотрудничества между учащимися, а также для индивидуальной работы; формирования чувства ответственности за порученную работу; умения слушать и слышать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Развивающие: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Развитие творческих способностей учащихся (воображения, наблюдательности, памяти, мышления); Развитие самоанализа и рефлексии; Развитие способности выявлять причинно-следственные связи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mbria"/>
              </a:rPr>
              <a:t>Из истории десятичных дробе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785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оявились десятичные дроби в трудах арабских математиков в Средние века и независимо от них в древнем Китае. Но и раньше, в древнем Вавилоне, использовали дроби такого же типа, только шестидесятеричные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озднее учёный Гартман Бейер (1563-1625) выпустил сочинение “Десятичная логистика”, где писал: “…я обратил внимание на то, что техники и ремесленники, когда измеряют какую-нибудь длину, то очень редко и лишь в исключительных случаях выражают её в целых числах одного наименования; обыкновенно им приходится или брать мелкие меры, или обращаться к дробям, точно так же астрономы измеряют величины не только в градусах, но и в долях градуса, т.е. минутах, секундах и т.п., но мне кажется, их деление на 60 частей не так удобно, как деление на 10, на 100 частей и т.д., потому что в последнем случае гораздо легче складывать, вычитать и вообще производить арифметические действия; мне кажется, что десятичные доли, если бы ввести вместо шестидесятеричных, пригодились бы не только для астрономии, но и для всякого рода вычислений”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Сегодня мы пользуемся десятичными дробями естественно и свободно. Однако то, что кажется естественным нам, служило настоящим камнем преткновения для учёных Средневековья. В Западной Европе 16 в. вместе с широко распространённой десятичной системой представления целых чисел в расчётах повсюду применялись шестидесятеричные дроби, восходящие ещё к древней традиции вавилонян. Понадобился светлый ум нидерландского математика Симона Стевина, чтобы привести запись и целых, и дробных чисел в единую систему. По-видимому, толчком создания десятичных дробей послужили составленные им таблицы сложных процентов. В 1585 г. он опубликовал книгу “Десятина”, в которой объяснил десятичные дроби. Обозначения Стевина не отличались совершенством, так же как и обозначения его коллег и последователей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Вот как бы они записали число 3,1415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. Стевин  3 0 1 1 4 2 1 3 5 4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Й.Х. Бейер 0  </a:t>
            </a: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Ι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ΙΙ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ΙΙΙ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Ι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Ѵ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3  1  4   1   5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А. Жирар 3|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mbria"/>
              </a:rPr>
              <a:t>1415          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mbria"/>
              </a:rPr>
              <a:t>Стих о десятичных дробя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857160"/>
            <a:ext cx="31147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Мы дроби не простые,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Мы знаки не пустые.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Мы дроби десятичные, 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Возможно и привычные.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Если правильные мы.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Слева нас стоят нули.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Прямо перед запятой –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Этот знак ведь непростой.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Запятая в нас важна,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И всегда она нужна.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Вот пример вам: если вдруг 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Написал ваш лучший друг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Про единицу, что она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Одной десятой равна.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Но ведь это так ужасно 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И старался он напрасно!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Дети, помните всегда: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Запятая в нас важна!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" name="Рисунок 6" descr="2.jpg"/>
          <p:cNvPicPr/>
          <p:nvPr/>
        </p:nvPicPr>
        <p:blipFill>
          <a:blip r:embed="rId1"/>
          <a:stretch/>
        </p:blipFill>
        <p:spPr>
          <a:xfrm>
            <a:off x="214200" y="3929040"/>
            <a:ext cx="20131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571920" y="571320"/>
            <a:ext cx="51148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А вот ещё правило, оно не сложней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Если в конце десятичных дроб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ули отбросить иль их приписать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а хоть всю тетрадь нулями исписать!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робь, равная данной получится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Так зачем же тогда мучиться?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Чтоб дроби десятичные сравнить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ам много и не надобно учи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Число знаков десятичных уравнять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 одной из них справа нули приписа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И, отбросив запятую потом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равое с левым сравнить числом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Чтоб нас вычесть, иль сложить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ам не следует спеши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6" name="Рисунок 6" descr="2.jpg"/>
          <p:cNvPicPr/>
          <p:nvPr/>
        </p:nvPicPr>
        <p:blipFill>
          <a:blip r:embed="rId1"/>
          <a:stretch/>
        </p:blipFill>
        <p:spPr>
          <a:xfrm>
            <a:off x="214200" y="1000080"/>
            <a:ext cx="257184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0" y="285480"/>
            <a:ext cx="41148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Тут совет мы можем дать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руг под другом нас записа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Запятая чтоб была под запятой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А складывать надо так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ак будто нет их ни одно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А потом обратите внимания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Что можно без особого старани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ам в самом конце, в ответе её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росто поставить на место своё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Теперь, когда вы всё о нас знаете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И многое теперь понимаете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омните, мы дроби десятичные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И вам, наверное, привычные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И все же, приступая к решению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Обдумывайте всё хорошенько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8" name="Рисунок 6" descr="2.jpg"/>
          <p:cNvPicPr/>
          <p:nvPr/>
        </p:nvPicPr>
        <p:blipFill>
          <a:blip r:embed="rId1"/>
          <a:stretch/>
        </p:blipFill>
        <p:spPr>
          <a:xfrm>
            <a:off x="214200" y="1000080"/>
            <a:ext cx="257184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8:43:14Z</dcterms:created>
  <dc:creator>26526</dc:creator>
  <dc:description/>
  <dc:language>en-US</dc:language>
  <cp:lastModifiedBy>26526</cp:lastModifiedBy>
  <dcterms:modified xsi:type="dcterms:W3CDTF">2010-06-04T11:47:11Z</dcterms:modified>
  <cp:revision>8</cp:revision>
  <dc:subject/>
  <dc:title>Учебный проект </dc:title>
</cp:coreProperties>
</file>